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meepmeep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55A-32CD-4835-B199-DD38D2FD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0AFD-F379-4734-875B-2C739D57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E72-3E09-497C-9575-A47D8CD7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C0C8-0E9F-45B6-85AE-019CBFE7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AEA-6662-4E55-9DFA-47E82878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E6C-917A-43C0-B52E-3F4BAA68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2A6-27B6-46F7-A1FE-4C1374AD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504A-E77D-4584-B415-E0DB1CB6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F3B-A4EC-4075-A36D-53A6803F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2AD-262C-4FD7-8AA6-6F7426AC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A07-337B-425B-9877-99CD1AB5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2CD-14D1-4A88-9E64-FB600173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335D-55F0-45CB-A729-458438D6A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hzipup01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hzipup01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hzipup01.wav"/><Relationship Id="rId17" Type="http://schemas.openxmlformats.org/officeDocument/2006/relationships/audio" Target="../media/zapbig0g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audio" Target="../media/zapbig0g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hzipup01.wav"/><Relationship Id="rId26" Type="http://schemas.openxmlformats.org/officeDocument/2006/relationships/audio" Target="../media/zapbig0g.wav"/><Relationship Id="rId27" Type="http://schemas.openxmlformats.org/officeDocument/2006/relationships/audio" Target="../media/zapbig0g.wav"/><Relationship Id="rId28" Type="http://schemas.openxmlformats.org/officeDocument/2006/relationships/audio" Target="../media/zapbig0g.wav"/><Relationship Id="rId29" Type="http://schemas.openxmlformats.org/officeDocument/2006/relationships/audio" Target="../media/zapbig0g.wav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zapbig0g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meepmeep.wav"/><Relationship Id="rId7" Type="http://schemas.openxmlformats.org/officeDocument/2006/relationships/audio" Target="../media/bserie06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meepmeep.wav"/><Relationship Id="rId11" Type="http://schemas.openxmlformats.org/officeDocument/2006/relationships/audio" Target="../media/meepmeep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jetflyby2.wav"/><Relationship Id="rId4" Type="http://schemas.openxmlformats.org/officeDocument/2006/relationships/audio" Target="../media/meepmeep.wav"/><Relationship Id="rId5" Type="http://schemas.openxmlformats.org/officeDocument/2006/relationships/audio" Target="../media/bserie06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meepmeep.wav"/><Relationship Id="rId10" Type="http://schemas.openxmlformats.org/officeDocument/2006/relationships/audio" Target="../media/meepmeep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Multipl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65200" y="209232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   7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94040" y="352908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82800" y="34592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55800" y="26798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94040" y="286704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90840" y="15303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25800" y="3460680"/>
            <a:ext cx="96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21240" y="209880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  357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9720" y="353520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7680" y="34513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39000" y="2687760"/>
            <a:ext cx="6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45240" y="15368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3560" y="345276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82960" y="345744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,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67240" y="15303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57640" y="2835360"/>
            <a:ext cx="5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Multipl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54080" y="160488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   8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82560" y="304164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2160" y="29718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9760" y="2192400"/>
            <a:ext cx="96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82560" y="2379600"/>
            <a:ext cx="5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14680" y="2973240"/>
            <a:ext cx="96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66760" y="36273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49280" y="3629160"/>
            <a:ext cx="96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46320" y="4413240"/>
            <a:ext cx="1841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70320" y="439596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85840" y="43974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55600" y="440208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,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49920" y="15908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 27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78400" y="302724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27640" y="29574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35600" y="2178000"/>
            <a:ext cx="96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78400" y="2365200"/>
            <a:ext cx="5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45320" y="2959200"/>
            <a:ext cx="6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2600" y="36133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67320" y="3614760"/>
            <a:ext cx="6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73480" y="4398840"/>
            <a:ext cx="17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5800" y="4381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81680" y="43830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54720" y="4387680"/>
            <a:ext cx="69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99040" y="2975040"/>
            <a:ext cx="87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30680" y="10652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10280" y="10954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72040" y="3600360"/>
            <a:ext cx="6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37040" y="4419720"/>
            <a:ext cx="8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9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Pow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5200" y="142092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   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73160" y="1257480"/>
            <a:ext cx="5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71520" y="3902040"/>
            <a:ext cx="142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03440" y="2384280"/>
                <a:ext cx="230184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015920" y="3191040"/>
                <a:ext cx="17956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3963960" y="142092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  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24560" y="1241280"/>
            <a:ext cx="5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0400" y="3170160"/>
            <a:ext cx="142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170240" y="2384280"/>
                <a:ext cx="216396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5006880" y="3170160"/>
            <a:ext cx="142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Pow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5200" y="142092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  1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25800" y="1239840"/>
            <a:ext cx="5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17600" y="3094200"/>
            <a:ext cx="142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947880" y="2382840"/>
                <a:ext cx="2025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3963960" y="142092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   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8000" y="1241280"/>
            <a:ext cx="5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222800" y="2354400"/>
                <a:ext cx="23018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81360" y="3160800"/>
                <a:ext cx="17035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540400" y="3992400"/>
            <a:ext cx="142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95920" y="3992400"/>
            <a:ext cx="142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7, 1 – 7 #1-1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9, 1 – 8 #1-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8-11T19:40:36Z</dcterms:modified>
  <cp:revision>52</cp:revision>
  <dc:subject/>
  <dc:title>Slide 1</dc:title>
</cp:coreProperties>
</file>